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4FEB-D6D1-4334-AAE8-046EF263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22DF-8B85-454E-8740-72598D5D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ootage.shutterstock.com/clip-2456567-stock-footage-spring-green-plants-in-the-foregroun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764E-4856-47EF-ABDC-4602D601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aileybio.com/plogger/?level=picture&amp;id=6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9D66-0C1B-46C1-A22A-C2F8CFF20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eb.dbs.umt.edu/dbs/courses/sci226/lab4_plantsanima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7047-FC28-404E-B73C-EC3D97AF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yk.psu.edu/~sg3/ist311/games/team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0720-2CBD-4A03-A916-12F360C82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E362-11C6-424D-A13F-18BE9FEFB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logster.com/brandonl13/the-plant-body/g-6lllm92mrphbrfs5t045p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55A0-9B3D-4ED1-85A0-8630028EB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wc2012.wikispaces.com/nonvascular+seedless+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0DFE-70BB-4538-8D8C-AB1597175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60A3-395B-44E7-93C8-8FDD1561F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E70E-040E-43F3-A441-EC0A281F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biologyintro2life.blogspot.ca/2010/08/multicellular-organization-plants_1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039-CEFA-49D1-90F8-BF2676D9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5F2-37FC-4571-A62B-A56B707E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426-81DA-4460-B607-9B691F49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EAD-79EE-4046-934A-6F9A7F98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59F-8E75-4798-8121-CDB7A56E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E38-52F4-4352-B041-C8231176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FAB-C627-47A3-8FD3-C25CCC9C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4AA-153B-45D3-8FED-9B7E1F8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90C-19EC-4358-886E-BD1BAD25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089-4535-41BE-86A3-530859B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F11-2820-4DF3-8657-2035639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D2C-F9A0-45B1-A63D-7ACDFB3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8CA7-7C99-4933-8A3D-1BFB9552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: Anatomy, Grow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dividing, undifferentiat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pecialize into different cells,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lrg-630-meristem"/>
          <p:cNvPicPr/>
          <p:nvPr/>
        </p:nvPicPr>
        <p:blipFill>
          <a:blip r:embed="rId1"/>
          <a:stretch/>
        </p:blipFill>
        <p:spPr>
          <a:xfrm>
            <a:off x="4419720" y="1677960"/>
            <a:ext cx="43434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from Divers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g2_large"/>
          <p:cNvPicPr/>
          <p:nvPr/>
        </p:nvPicPr>
        <p:blipFill>
          <a:blip r:embed="rId1"/>
          <a:stretch/>
        </p:blipFill>
        <p:spPr>
          <a:xfrm>
            <a:off x="1519200" y="1676520"/>
            <a:ext cx="610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cots have seeds with 1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ts have seeds with 2 cotyledons; we focus on the eudicots (a group of dic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eeds"/>
          <p:cNvPicPr/>
          <p:nvPr/>
        </p:nvPicPr>
        <p:blipFill>
          <a:blip r:embed="rId1"/>
          <a:stretch/>
        </p:blipFill>
        <p:spPr>
          <a:xfrm>
            <a:off x="4267080" y="224784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Image518"/>
          <p:cNvPicPr/>
          <p:nvPr/>
        </p:nvPicPr>
        <p:blipFill>
          <a:blip r:embed="rId1"/>
          <a:stretch/>
        </p:blipFill>
        <p:spPr>
          <a:xfrm>
            <a:off x="4572000" y="268272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most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, peri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epidermis-and-periderm"/>
          <p:cNvPicPr/>
          <p:nvPr/>
        </p:nvPicPr>
        <p:blipFill>
          <a:blip r:embed="rId1"/>
          <a:stretch/>
        </p:blipFill>
        <p:spPr>
          <a:xfrm>
            <a:off x="4419720" y="24192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10-24-vascular"/>
          <p:cNvPicPr/>
          <p:nvPr/>
        </p:nvPicPr>
        <p:blipFill>
          <a:blip r:embed="rId1"/>
          <a:stretch/>
        </p:blipFill>
        <p:spPr>
          <a:xfrm>
            <a:off x="844560" y="1523880"/>
            <a:ext cx="7607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Xy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-walled cells, dead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ids &amp; vesse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water &amp; sol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Xylem and Phloem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-walled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ve cells, sieve tube elements, companio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Xylem and Phloem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chyma, collenchyma, sclerenchy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rowth &amp; development; store sugars; support &amp; protect plant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ground cells"/>
          <p:cNvPicPr/>
          <p:nvPr/>
        </p:nvPicPr>
        <p:blipFill>
          <a:blip r:embed="rId1"/>
          <a:stretch/>
        </p:blipFill>
        <p:spPr>
          <a:xfrm>
            <a:off x="380880" y="1746360"/>
            <a:ext cx="8458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6-11-15T16:15:07Z</dcterms:modified>
  <cp:revision>50</cp:revision>
  <dc:subject/>
  <dc:title>PowerPoint Presentation</dc:title>
</cp:coreProperties>
</file>